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FA5B-8A22-4743-87F1-2AD55FB9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EC9-6A78-4F1A-BB2F-24A03A93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483-292F-4945-B733-5833D785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2B3D-02CB-4F75-BAA9-FBFB0A42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DF7-8AE2-4264-BA5F-58C491BA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52B0-5212-4B29-A130-84DABDF8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C28-6531-419F-B311-2FD79D35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F90-7E68-41C1-9AA7-BAF07210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907-4F92-4520-9335-A8CEE2A5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8C1-657C-4039-A791-E5034E6D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CC34-79DD-4EAB-893B-F1502B21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702-C59A-4FD4-B6D7-FCF29DBC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C6FA2-F5F9-41D7-AE0D-84007FB8BF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5E6FF6-9FFC-4C37-801F-45C321C67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akapan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Torri  Weeks and Morgan By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acher:  Mrs. Smal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ate:  October 21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re their daily life activities? Cont’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traded goods and animal skins with other tribes and with the French and Span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tribes were able to farm successfully beans and other crops, but not usually, because of the marshy terrains of the coastal are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re their traditions and celebra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n wore breech cloths and the women wore wraparound skirts from deer skin or woven fabr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took part in story-telling, artwork, music, ceremonial dances, and traditional medic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smeared alligator grease all over their bodies to repel bu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flattened their skulls at the fr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John\Desktop\atakapan-sm.jpg"/>
          <p:cNvPicPr/>
          <p:nvPr/>
        </p:nvPicPr>
        <p:blipFill>
          <a:blip r:embed="rId1"/>
          <a:stretch/>
        </p:blipFill>
        <p:spPr>
          <a:xfrm>
            <a:off x="2997360" y="925560"/>
            <a:ext cx="318276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re their traditions and celebrations? Cont’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used wet bark for baby carriers and Spanish moss for diap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thers would rename themselves after the birth of their s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, only men were allowed to become Atakapan chief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id they believe and who did they worshi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believed in a creator or great spirit that established the rules for appropriate condu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displayed tattoos on their bodies to symbolize their family tribe and belief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opened their ceremonies with pray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believed that men who died from snakebites and men who were eaten by other men were denied life after dea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id they believe and who did they worship?  Cont’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ir oral history of myths says they were created from a sea oys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believed in a prophet, or author of all things who sent the spirits of those who did well, above, and those that did evil, under the earth and into the shadow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they known f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gest thing they are known for is practicing cannibalism against their enem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a Southeastern culture of Native American tribes who spoke Atakap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called themselves the Ishak which means, “The People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ame Atakapa is Choctaw in origin and means, “Maneater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John\Desktop\335px-Attakapa2-1735-deBatz.jpg"/>
          <p:cNvPicPr/>
          <p:nvPr/>
        </p:nvPicPr>
        <p:blipFill>
          <a:blip r:embed="rId1"/>
          <a:stretch/>
        </p:blipFill>
        <p:spPr>
          <a:xfrm>
            <a:off x="3106800" y="1046160"/>
            <a:ext cx="33717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ontributions did they give to Texa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ople say their descendants exist today and have organized to be recognized as a tribe that maintains their cul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resent day towns can be traced back to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akapan is a language, not really a tribe and is still studied tod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ydeco music is believed to have come from Atakapa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hanged for them as settlers arriv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were decimated by infectious diseases of the late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ntury after European co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nch settlers exterminated the Eastern Atakap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f them married into different tribes in Louisiana and migrated to other are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erty also led to the demise of many ban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did they live in Texa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lived in the southeastern part of Texas, along the Gulf of Mexic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ir villages and campsites were near the Trinity, Sabine, and San Jacinto Rivers, and the Galveston Bay are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usually lived in huts made from animal ski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bands lived along the shores of the Brazos Ri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ww.texasindians.com/atakap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iking.coe.uh.edu/~mroy/edwards/page14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n.wikipedia.org/wiki/Atakapa_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ww.ehow.com › Culture &amp;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ww.angelfire.com/tx2/ecc/karankawa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ww.freewebs.com/beatleslover3393/contrastoftwotribes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bigorrin.org/atakapa_kids.h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John\Desktop\atabigs.jpg"/>
          <p:cNvPicPr/>
          <p:nvPr/>
        </p:nvPicPr>
        <p:blipFill>
          <a:blip r:embed="rId1"/>
          <a:stretch/>
        </p:blipFill>
        <p:spPr>
          <a:xfrm>
            <a:off x="1531800" y="1465200"/>
            <a:ext cx="560736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John\Desktop\native.jpg"/>
          <p:cNvPicPr/>
          <p:nvPr/>
        </p:nvPicPr>
        <p:blipFill>
          <a:blip r:embed="rId1"/>
          <a:stretch/>
        </p:blipFill>
        <p:spPr>
          <a:xfrm>
            <a:off x="738360" y="981000"/>
            <a:ext cx="70498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John\Desktop\houses.jpg"/>
          <p:cNvPicPr/>
          <p:nvPr/>
        </p:nvPicPr>
        <p:blipFill>
          <a:blip r:embed="rId1"/>
          <a:stretch/>
        </p:blipFill>
        <p:spPr>
          <a:xfrm>
            <a:off x="2027160" y="1873080"/>
            <a:ext cx="526572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id they eat and how did they get it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akapans were hunter gatherers and they caught fish, crabs, clams, shrimp, and oys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te lots of small game, plant foods, fruit, nuts, and wild hon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n hunted larger game like deer, bear, bison, and allig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men gathered bird eggs and herbs, farmed maize, and cooked the food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John\Desktop\800px-Nelumbo_lutea.jpg"/>
          <p:cNvPicPr/>
          <p:nvPr/>
        </p:nvPicPr>
        <p:blipFill>
          <a:blip r:embed="rId1"/>
          <a:stretch/>
        </p:blipFill>
        <p:spPr>
          <a:xfrm>
            <a:off x="762120" y="981000"/>
            <a:ext cx="76197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id they eat and how did they get it?  Cont’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used poisons to catch f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used tools like bows and arrows and fishing spears for hunting and fish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killed alligators by spearing them in the ey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re their daily life activiti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spent time moving camps near water and food sour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n made tools like spears for hunt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men took care of the children and made clo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built crude huts, bear skin tents, and dugout cano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ch of their time involved hunting and gathering f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4:09:32Z</dcterms:created>
  <dc:creator>Torrance Weeks</dc:creator>
  <dc:description/>
  <dc:language>en-US</dc:language>
  <cp:lastModifiedBy>John W. Weeks</cp:lastModifiedBy>
  <dcterms:modified xsi:type="dcterms:W3CDTF">2011-10-21T02:25:51Z</dcterms:modified>
  <cp:revision>36</cp:revision>
  <dc:subject/>
  <dc:title>Atakapan  </dc:title>
</cp:coreProperties>
</file>